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EE3C-36D2-42C0-93AB-C7AFB72A5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3465-4648-4D7E-8027-B0B844168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BC46-2DCD-4BAA-958D-AE5AF53BC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62F7-C982-41D8-BD8A-010F6BFA2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F83A-BC0A-4CBB-AF5E-1A8B6C05C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AC0C-2A1B-4107-B7EB-113E9BC4F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10A8-7F12-4ECD-A4E1-5C5530C93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0E63-7965-43CC-A883-5115092C3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8800-FE02-4187-863A-0BF9F7BA8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0730-72F9-4456-8F17-E6BF4C505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4C41-1734-439F-A0C1-E8DB72668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A92B-7AC9-4901-9D43-FD2846D8B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13DC0-4E57-459C-B4F5-8729E22C8D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://www.tousenkun.net/" TargetMode="External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319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効率的なポスター運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1720" y="5516640"/>
            <a:ext cx="295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d4d4d"/>
                </a:solidFill>
                <a:latin typeface="Arial"/>
              </a:rPr>
              <a:t>株式会社トライアング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d4d4d"/>
                </a:solidFill>
                <a:latin typeface="HG丸ｺﾞｼｯｸM-PRO"/>
                <a:ea typeface="HG丸ｺﾞｼｯｸM-PRO"/>
              </a:rPr>
              <a:t>人とシステムの事をココロで考える会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00080" y="20880"/>
            <a:ext cx="2239920" cy="1041120"/>
            <a:chOff x="100080" y="20880"/>
            <a:chExt cx="2239920" cy="1041120"/>
          </a:xfrm>
        </p:grpSpPr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287280" y="763560"/>
              <a:ext cx="2052720" cy="298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5" name=""/>
            <p:cNvGrpSpPr/>
            <p:nvPr/>
          </p:nvGrpSpPr>
          <p:grpSpPr>
            <a:xfrm>
              <a:off x="100080" y="20880"/>
              <a:ext cx="2070360" cy="705960"/>
              <a:chOff x="100080" y="20880"/>
              <a:chExt cx="2070360" cy="705960"/>
            </a:xfrm>
          </p:grpSpPr>
          <p:sp>
            <p:nvSpPr>
              <p:cNvPr id="46" name=""/>
              <p:cNvSpPr/>
              <p:nvPr/>
            </p:nvSpPr>
            <p:spPr>
              <a:xfrm rot="344400">
                <a:off x="347400" y="172800"/>
                <a:ext cx="1008000" cy="5047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9080">
                <a:solidFill>
                  <a:srgbClr val="ff9900"/>
                </a:solidFill>
                <a:miter/>
              </a:ln>
              <a:effectLst>
                <a:outerShdw dist="40186" dir="4303641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344400">
                <a:off x="717120" y="144360"/>
                <a:ext cx="1008000" cy="5047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44280">
                <a:solidFill>
                  <a:srgbClr val="ff5050"/>
                </a:solidFill>
                <a:miter/>
              </a:ln>
              <a:effectLst>
                <a:outerShdw dist="40186" dir="4303641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344400">
                <a:off x="1139400" y="115560"/>
                <a:ext cx="1008000" cy="5047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9080">
                <a:solidFill>
                  <a:srgbClr val="99cc00"/>
                </a:solidFill>
                <a:miter/>
              </a:ln>
              <a:effectLst>
                <a:outerShdw dist="40186" dir="4303641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9211400">
                <a:off x="108000" y="258840"/>
                <a:ext cx="692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9900"/>
                    </a:solidFill>
                    <a:latin typeface="HG丸ｺﾞｼｯｸM-PRO"/>
                    <a:ea typeface="HG丸ｺﾞｼｯｸM-PRO"/>
                  </a:rPr>
                  <a:t>huma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9211400">
                <a:off x="902520" y="208800"/>
                <a:ext cx="6883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99cc00"/>
                    </a:solidFill>
                    <a:latin typeface="HG丸ｺﾞｼｯｸM-PRO"/>
                    <a:ea typeface="HG丸ｺﾞｼｯｸM-PRO"/>
                  </a:rPr>
                  <a:t>syste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19211400">
                <a:off x="449640" y="282600"/>
                <a:ext cx="596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5050"/>
                    </a:solidFill>
                    <a:latin typeface="HG丸ｺﾞｼｯｸM-PRO"/>
                    <a:ea typeface="HG丸ｺﾞｼｯｸM-PRO"/>
                  </a:rPr>
                  <a:t>hear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" name=""/>
          <p:cNvGrpSpPr/>
          <p:nvPr/>
        </p:nvGrpSpPr>
        <p:grpSpPr>
          <a:xfrm>
            <a:off x="6298560" y="6126120"/>
            <a:ext cx="2594160" cy="298440"/>
            <a:chOff x="6298560" y="6126120"/>
            <a:chExt cx="2594160" cy="298440"/>
          </a:xfrm>
        </p:grpSpPr>
        <p:grpSp>
          <p:nvGrpSpPr>
            <p:cNvPr id="53" name=""/>
            <p:cNvGrpSpPr/>
            <p:nvPr/>
          </p:nvGrpSpPr>
          <p:grpSpPr>
            <a:xfrm>
              <a:off x="6298560" y="6153840"/>
              <a:ext cx="537840" cy="203040"/>
              <a:chOff x="6298560" y="6153840"/>
              <a:chExt cx="537840" cy="203040"/>
            </a:xfrm>
          </p:grpSpPr>
          <p:sp>
            <p:nvSpPr>
              <p:cNvPr id="54" name=""/>
              <p:cNvSpPr/>
              <p:nvPr/>
            </p:nvSpPr>
            <p:spPr>
              <a:xfrm rot="344400">
                <a:off x="6305400" y="6185880"/>
                <a:ext cx="309240" cy="1555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908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344400">
                <a:off x="6410160" y="6177960"/>
                <a:ext cx="307800" cy="1540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908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344400">
                <a:off x="6519600" y="6168600"/>
                <a:ext cx="309600" cy="1555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7" name="" descr=""/>
            <p:cNvPicPr/>
            <p:nvPr/>
          </p:nvPicPr>
          <p:blipFill>
            <a:blip r:embed="rId2"/>
            <a:stretch/>
          </p:blipFill>
          <p:spPr>
            <a:xfrm>
              <a:off x="6840360" y="6126120"/>
              <a:ext cx="2052360" cy="298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" name="">
            <a:hlinkClick r:id="rId3"/>
          </p:cNvPr>
          <p:cNvSpPr/>
          <p:nvPr/>
        </p:nvSpPr>
        <p:spPr>
          <a:xfrm>
            <a:off x="6233760" y="6504120"/>
            <a:ext cx="259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RL:http://www.tousenkun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solidFill>
            <a:srgbClr val="99ff33"/>
          </a:solidFill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04360" y="4932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効率的なポスターの運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98720" y="6491160"/>
            <a:ext cx="340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8-2010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ry-Ang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72200" y="765000"/>
            <a:ext cx="2703240" cy="1270080"/>
          </a:xfrm>
          <a:prstGeom prst="cloudCallout">
            <a:avLst>
              <a:gd name="adj1" fmla="val 70648"/>
              <a:gd name="adj2" fmla="val 50337"/>
            </a:avLst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ポスターを人目につく場所に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枚でも多く貼りたいけ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場所探しが大変だな・・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771640" y="1916280"/>
            <a:ext cx="2808360" cy="1836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914360" y="981000"/>
            <a:ext cx="2143080" cy="894960"/>
          </a:xfrm>
          <a:prstGeom prst="cloudCallout">
            <a:avLst>
              <a:gd name="adj1" fmla="val -74231"/>
              <a:gd name="adj2" fmla="val 72194"/>
            </a:avLst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ポスター運用が効率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ができればなぁ・・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84880" y="3859200"/>
            <a:ext cx="2497320" cy="1067400"/>
          </a:xfrm>
          <a:prstGeom prst="rect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ポスターを貼る場所を確保するのは手間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時間がかかる作業で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所有者の合意をもらいながら進めなくて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なりません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0160" y="3500280"/>
            <a:ext cx="1034280" cy="337320"/>
          </a:xfrm>
          <a:prstGeom prst="rect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スペースの確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16560" y="3860640"/>
            <a:ext cx="581400" cy="1067400"/>
          </a:xfrm>
          <a:prstGeom prst="rect">
            <a:avLst/>
          </a:prstGeom>
          <a:noFill/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スペースが決まれば、迅速に貼って告示（公示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直前に一気に剥がします。告示（公示）後は選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ポスターに張替えなければなりません。迅速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効率的な運用が大切で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324560" y="3500280"/>
            <a:ext cx="1155960" cy="337320"/>
          </a:xfrm>
          <a:prstGeom prst="rect">
            <a:avLst/>
          </a:prstGeom>
          <a:solidFill>
            <a:srgbClr val="0066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作業効率のアッ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0920" y="5084640"/>
            <a:ext cx="8497800" cy="1297080"/>
          </a:xfrm>
          <a:prstGeom prst="roundRect">
            <a:avLst>
              <a:gd name="adj" fmla="val 10773"/>
            </a:avLst>
          </a:prstGeom>
          <a:solidFill>
            <a:srgbClr val="eaeaea"/>
          </a:solidFill>
          <a:ln w="2844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データの管理がしっかりできていれば、慌てることはありません。後援者の状況を候補者自身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しっかり把握していれば「何をしなければいけないか」が見えてき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スタッフの方も、誰かに指示される前に何をすれば良いかが明確になり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ここではデータ管理が　いかに重要であるかご説明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59960" y="115920"/>
            <a:ext cx="1780920" cy="30708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Arial"/>
              </a:rPr>
              <a:t>しっかりしたデータ管理がカギ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solidFill>
            <a:srgbClr val="99ff33"/>
          </a:solidFill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8720" y="6491160"/>
            <a:ext cx="340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8-2010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ry-Ang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04360" y="4932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効率的なポスターの運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459960" y="115920"/>
            <a:ext cx="1780920" cy="30708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Arial"/>
              </a:rPr>
              <a:t>しっかりしたデータ管理がカギ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68360" y="1181160"/>
            <a:ext cx="2963880" cy="18190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806400" y="2070000"/>
            <a:ext cx="86364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83880" y="1855800"/>
            <a:ext cx="720360" cy="276480"/>
          </a:xfrm>
          <a:prstGeom prst="wedgeRectCallout">
            <a:avLst>
              <a:gd name="adj1" fmla="val -83166"/>
              <a:gd name="adj2" fmla="val 83675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リッ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788000" y="1108080"/>
            <a:ext cx="2808360" cy="21049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282360" y="1612800"/>
            <a:ext cx="1484280" cy="413640"/>
          </a:xfrm>
          <a:prstGeom prst="wedgeRectCallout">
            <a:avLst>
              <a:gd name="adj1" fmla="val -81328"/>
              <a:gd name="adj2" fmla="val 81736"/>
            </a:avLst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①△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年ポスターを選択す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（前回の選挙時にポスターを貼った場所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35280" y="2044800"/>
            <a:ext cx="814320" cy="0"/>
          </a:xfrm>
          <a:prstGeom prst="line">
            <a:avLst/>
          </a:prstGeom>
          <a:ln w="7632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57320" y="892080"/>
            <a:ext cx="720360" cy="276480"/>
          </a:xfrm>
          <a:prstGeom prst="wedgeRectCallout">
            <a:avLst>
              <a:gd name="adj1" fmla="val -98449"/>
              <a:gd name="adj2" fmla="val 69504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リッ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003280" y="3284640"/>
            <a:ext cx="1008360" cy="936360"/>
          </a:xfrm>
          <a:prstGeom prst="line">
            <a:avLst/>
          </a:prstGeom>
          <a:ln w="7632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755640" y="3500280"/>
            <a:ext cx="4105440" cy="30322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873400" y="4292640"/>
            <a:ext cx="2375280" cy="1523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簡単に宛名ラベルとリストが同時に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できあがります。（ラベルは印刷不要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このリストを基に前回、ポスターを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貼らせてくれた後援者に電話や訪問等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アプローチ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5240" y="581040"/>
            <a:ext cx="225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■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前回の選挙時のデータを活用す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solidFill>
            <a:srgbClr val="99ff33"/>
          </a:solidFill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51640" y="893880"/>
            <a:ext cx="303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区分に”○年ポスター“というキーワードを登録す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00000" y="1268280"/>
            <a:ext cx="486000" cy="503280"/>
          </a:xfrm>
          <a:prstGeom prst="downArrow">
            <a:avLst>
              <a:gd name="adj1" fmla="val 49676"/>
              <a:gd name="adj2" fmla="val 58767"/>
            </a:avLst>
          </a:prstGeom>
          <a:solidFill>
            <a:srgbClr val="bbe0e3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85680" y="1857240"/>
            <a:ext cx="3634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ラベル印刷の要領で“△年ポスター”のリストを出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　（前回の選挙でポスターを貼らせてくれた人のリスト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17640" y="2462040"/>
            <a:ext cx="485640" cy="503280"/>
          </a:xfrm>
          <a:prstGeom prst="downArrow">
            <a:avLst>
              <a:gd name="adj1" fmla="val 49676"/>
              <a:gd name="adj2" fmla="val 58811"/>
            </a:avLst>
          </a:prstGeom>
          <a:solidFill>
            <a:srgbClr val="bbe0e3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0440" y="3025800"/>
            <a:ext cx="163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電話をかけて依頼す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11560" y="2575080"/>
            <a:ext cx="450360" cy="33732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30280" y="3398760"/>
            <a:ext cx="541800" cy="33732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1" idx="3"/>
            <a:endCxn id="92" idx="1"/>
          </p:cNvCxnSpPr>
          <p:nvPr/>
        </p:nvCxnSpPr>
        <p:spPr>
          <a:xfrm flipV="1">
            <a:off x="2708280" y="2749320"/>
            <a:ext cx="496080" cy="444960"/>
          </a:xfrm>
          <a:prstGeom prst="straightConnector1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93" idx="1"/>
            <a:endCxn id="91" idx="3"/>
          </p:cNvCxnSpPr>
          <p:nvPr/>
        </p:nvCxnSpPr>
        <p:spPr>
          <a:xfrm flipH="1" flipV="1">
            <a:off x="2707560" y="3193560"/>
            <a:ext cx="515160" cy="380160"/>
          </a:xfrm>
          <a:prstGeom prst="straightConnector1">
            <a:avLst/>
          </a:prstGeom>
          <a:ln w="38160">
            <a:solidFill>
              <a:srgbClr val="808080"/>
            </a:solidFill>
            <a:miter/>
            <a:headEnd len="med" type="triangle" w="med"/>
          </a:ln>
        </p:spPr>
      </p:cxnSp>
      <p:sp>
        <p:nvSpPr>
          <p:cNvPr id="96" name=""/>
          <p:cNvSpPr/>
          <p:nvPr/>
        </p:nvSpPr>
        <p:spPr>
          <a:xfrm>
            <a:off x="4361760" y="3413160"/>
            <a:ext cx="273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○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年ポスター”のデータをメンテナンスす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429080" y="2565360"/>
            <a:ext cx="298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次回の選挙を考慮してデータはそのままにしてお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50760" y="3444840"/>
            <a:ext cx="486000" cy="503280"/>
          </a:xfrm>
          <a:prstGeom prst="downArrow">
            <a:avLst>
              <a:gd name="adj1" fmla="val 49676"/>
              <a:gd name="adj2" fmla="val 58767"/>
            </a:avLst>
          </a:prstGeom>
          <a:solidFill>
            <a:srgbClr val="bbe0e3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23520" y="3897360"/>
            <a:ext cx="126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ポスターを貼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52560" y="4295880"/>
            <a:ext cx="485640" cy="503280"/>
          </a:xfrm>
          <a:prstGeom prst="downArrow">
            <a:avLst>
              <a:gd name="adj1" fmla="val 49676"/>
              <a:gd name="adj2" fmla="val 58811"/>
            </a:avLst>
          </a:prstGeom>
          <a:solidFill>
            <a:srgbClr val="bbe0e3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356120" y="4821120"/>
            <a:ext cx="61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告示前に一気に剥が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600600" y="4838760"/>
            <a:ext cx="27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後日、ポスターを貼らせてくれた方へのお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"/>
          <p:cNvCxnSpPr>
            <a:stCxn id="96" idx="2"/>
            <a:endCxn id="101" idx="0"/>
          </p:cNvCxnSpPr>
          <p:nvPr/>
        </p:nvCxnSpPr>
        <p:spPr>
          <a:xfrm rot="5400000">
            <a:off x="3159000" y="2253600"/>
            <a:ext cx="1072080" cy="4064400"/>
          </a:xfrm>
          <a:prstGeom prst="bentConnector3">
            <a:avLst>
              <a:gd name="adj1" fmla="val 49916"/>
            </a:avLst>
          </a:prstGeom>
          <a:ln w="381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104" name=""/>
          <p:cNvCxnSpPr>
            <a:stCxn id="96" idx="2"/>
            <a:endCxn id="102" idx="0"/>
          </p:cNvCxnSpPr>
          <p:nvPr/>
        </p:nvCxnSpPr>
        <p:spPr>
          <a:xfrm flipH="1" rot="16200000">
            <a:off x="5686920" y="3789000"/>
            <a:ext cx="1089720" cy="1010520"/>
          </a:xfrm>
          <a:prstGeom prst="bentConnector3">
            <a:avLst>
              <a:gd name="adj1" fmla="val 50000"/>
            </a:avLst>
          </a:prstGeom>
          <a:ln w="3816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3132000" y="4221000"/>
            <a:ext cx="1008360" cy="432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年ポスタ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リス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134040" y="4178160"/>
            <a:ext cx="107964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年ポスタ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ラベ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156360" y="2968560"/>
            <a:ext cx="1008000" cy="432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年ポスタ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リス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110280" y="2062080"/>
            <a:ext cx="1008000" cy="432000"/>
          </a:xfrm>
          <a:prstGeom prst="rect">
            <a:avLst/>
          </a:prstGeom>
          <a:solidFill>
            <a:srgbClr val="99ffcc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年ポスタ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リス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1" idx="2"/>
            <a:endCxn id="89" idx="0"/>
          </p:cNvCxnSpPr>
          <p:nvPr/>
        </p:nvCxnSpPr>
        <p:spPr>
          <a:xfrm flipH="1" flipV="1" rot="5400000">
            <a:off x="582120" y="2936880"/>
            <a:ext cx="3301200" cy="1140840"/>
          </a:xfrm>
          <a:prstGeom prst="bentConnector5">
            <a:avLst>
              <a:gd name="adj1" fmla="val -25008"/>
              <a:gd name="adj2" fmla="val 615719"/>
              <a:gd name="adj3" fmla="val 106925"/>
            </a:avLst>
          </a:prstGeom>
          <a:ln w="57240">
            <a:solidFill>
              <a:srgbClr val="0066ff"/>
            </a:solidFill>
            <a:miter/>
            <a:tailEnd len="med" type="triangle" w="med"/>
          </a:ln>
        </p:spPr>
      </p:cxnSp>
      <p:sp>
        <p:nvSpPr>
          <p:cNvPr id="110" name=""/>
          <p:cNvSpPr/>
          <p:nvPr/>
        </p:nvSpPr>
        <p:spPr>
          <a:xfrm>
            <a:off x="2050920" y="5587920"/>
            <a:ext cx="6337440" cy="936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3300"/>
                </a:solidFill>
                <a:latin typeface="Arial"/>
              </a:rPr>
              <a:t>次回の選挙の際には“△年ポスターリスト”と“○年ポスターリスト”を基に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3300"/>
                </a:solidFill>
                <a:latin typeface="Arial"/>
              </a:rPr>
              <a:t>電話でポスター依頼後、新たなリストを作成します。（次回の選挙の際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3300"/>
                </a:solidFill>
                <a:latin typeface="Arial"/>
              </a:rPr>
              <a:t>電話や訪問対象のリストになります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510760" y="2841120"/>
            <a:ext cx="423720" cy="1197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66ff"/>
                </a:solidFill>
                <a:latin typeface="Arial"/>
              </a:rPr>
              <a:t>次回選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21440" y="865080"/>
            <a:ext cx="3671640" cy="337320"/>
          </a:xfrm>
          <a:prstGeom prst="rect">
            <a:avLst/>
          </a:prstGeom>
          <a:solidFill>
            <a:srgbClr val="ffff00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ここまでの作業が『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SK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』だけできます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16280" y="8885160"/>
            <a:ext cx="34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8-2010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ry-Ang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98720" y="6491160"/>
            <a:ext cx="340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8-2010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ry-Ang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04360" y="4932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効率的なポスターの運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59960" y="115920"/>
            <a:ext cx="1780920" cy="30708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Arial"/>
              </a:rPr>
              <a:t>しっかりしたデータ管理がカギ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15760" y="1135080"/>
            <a:ext cx="222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（※○年ポスターは今回、△年ポスターは前回とします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916360" y="5013360"/>
            <a:ext cx="1800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1400" y="581040"/>
            <a:ext cx="245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■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前回の選挙時のデータを活用する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11280" y="1012680"/>
            <a:ext cx="7993080" cy="52246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324320" y="692280"/>
            <a:ext cx="636480" cy="824040"/>
          </a:xfrm>
          <a:prstGeom prst="rect">
            <a:avLst/>
          </a:prstGeom>
          <a:solidFill>
            <a:srgbClr val="99ff33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ラベル印刷のボタンをクリックすると左右両方のデータができあがり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左側は「お礼」際のラベルとして、右側はポスターを貼る際、剥がす際のデータとして利用でき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各地区毎に担当者がリストを持って回れば効率があがります。また、どちらかのみの印刷も可能で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solidFill>
            <a:srgbClr val="99ff33"/>
          </a:solidFill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00280" y="8669160"/>
            <a:ext cx="34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8-2010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ry-Ang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916280" y="8885160"/>
            <a:ext cx="34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8-2010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ry-Ang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131920" y="11199960"/>
            <a:ext cx="340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8-2010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ry-Ang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31920" y="9101160"/>
            <a:ext cx="340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8-2010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ry-Ang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347920" y="9317160"/>
            <a:ext cx="340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8-2010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ry-Ang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63920" y="9532800"/>
            <a:ext cx="34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8-2010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ry-Ang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898720" y="6491160"/>
            <a:ext cx="340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8-2010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ry-Ang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4360" y="4932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効率的なポスターの運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459960" y="115920"/>
            <a:ext cx="1780920" cy="30708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Arial"/>
              </a:rPr>
              <a:t>しっかりしたデータ管理がカギ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203720" y="2205000"/>
            <a:ext cx="2557440" cy="36003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600080" y="1949400"/>
            <a:ext cx="1765800" cy="3373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ラベル印刷リストのイメー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1598760" y="2212920"/>
            <a:ext cx="2469960" cy="34578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711440" y="1949400"/>
            <a:ext cx="1887480" cy="337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ラベル印刷用データのイメー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9280" y="5148360"/>
            <a:ext cx="8785440" cy="59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※</a:t>
            </a:r>
            <a:r>
              <a:rPr b="1" lang="zh-CN" sz="1200" spc="-1" strike="noStrike">
                <a:solidFill>
                  <a:srgbClr val="ff3300"/>
                </a:solidFill>
                <a:latin typeface="Arial"/>
              </a:rPr>
              <a:t>上記データはダミーで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3300"/>
                </a:solidFill>
                <a:latin typeface="Arial"/>
              </a:rPr>
              <a:t>データベースに入っている住所等は全て表示、印刷されます。また、住所はまとまってリスト化されるので、担当地区毎に担当者がリストを持ってまわれます。複数人で一気に作業ができ、効率化が可能になり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06:25:42Z</dcterms:created>
  <dc:creator>yamauchi</dc:creator>
  <dc:description/>
  <dc:language>en-US</dc:language>
  <cp:lastModifiedBy>try</cp:lastModifiedBy>
  <dcterms:modified xsi:type="dcterms:W3CDTF">2011-05-17T09:32:04Z</dcterms:modified>
  <cp:revision>16</cp:revision>
  <dc:subject/>
  <dc:title>スライド 1</dc:title>
</cp:coreProperties>
</file>