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677C-D568-4B33-A643-D8449908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E42-8046-4A95-843D-AC711611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60D-27EA-4B01-A6EE-78836214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092-B3F5-45A1-9FCF-83A74CC7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B32E-B7F1-442A-8DF7-7778F5CE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B07-DFB8-4CF8-94A2-BE555F01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47A-42C7-427B-9AF6-5E0345AF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85D-111E-4BBD-B612-F38E7578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67C-A9C2-4C79-9E1D-9626036A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409-F632-483A-9D3E-C8B3246E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780-65D8-4FCD-8975-76309C18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212-E079-4105-95E0-6F861C5C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C023-739B-4884-A427-611E41301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tousenkun.net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効率的なポスター運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1720" y="5516640"/>
            <a:ext cx="29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</a:rPr>
              <a:t>株式会社トライアング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HG丸ｺﾞｼｯｸM-PRO"/>
                <a:ea typeface="HG丸ｺﾞｼｯｸM-PRO"/>
              </a:rPr>
              <a:t>人とシステムの事をココロで考える会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00080" y="20880"/>
            <a:ext cx="2239920" cy="1041120"/>
            <a:chOff x="100080" y="20880"/>
            <a:chExt cx="2239920" cy="104112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287280" y="763560"/>
              <a:ext cx="2052720" cy="298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100080" y="20880"/>
              <a:ext cx="2070360" cy="705960"/>
              <a:chOff x="100080" y="20880"/>
              <a:chExt cx="2070360" cy="705960"/>
            </a:xfrm>
          </p:grpSpPr>
          <p:sp>
            <p:nvSpPr>
              <p:cNvPr id="46" name=""/>
              <p:cNvSpPr/>
              <p:nvPr/>
            </p:nvSpPr>
            <p:spPr>
              <a:xfrm rot="344400">
                <a:off x="347400" y="172800"/>
                <a:ext cx="1008000" cy="504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ff9900"/>
                </a:solidFill>
                <a:miter/>
              </a:ln>
              <a:effectLst>
                <a:outerShdw dist="40186" dir="430364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344400">
                <a:off x="717120" y="144360"/>
                <a:ext cx="1008000" cy="504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44280">
                <a:solidFill>
                  <a:srgbClr val="ff5050"/>
                </a:solidFill>
                <a:miter/>
              </a:ln>
              <a:effectLst>
                <a:outerShdw dist="40186" dir="430364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344400">
                <a:off x="1139400" y="115560"/>
                <a:ext cx="1008000" cy="504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99cc00"/>
                </a:solidFill>
                <a:miter/>
              </a:ln>
              <a:effectLst>
                <a:outerShdw dist="40186" dir="430364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9211400">
                <a:off x="108000" y="258840"/>
                <a:ext cx="69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9900"/>
                    </a:solidFill>
                    <a:latin typeface="HG丸ｺﾞｼｯｸM-PRO"/>
                    <a:ea typeface="HG丸ｺﾞｼｯｸM-PRO"/>
                  </a:rPr>
                  <a:t>hum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9211400">
                <a:off x="902520" y="208800"/>
                <a:ext cx="68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cc00"/>
                    </a:solidFill>
                    <a:latin typeface="HG丸ｺﾞｼｯｸM-PRO"/>
                    <a:ea typeface="HG丸ｺﾞｼｯｸM-PRO"/>
                  </a:rPr>
                  <a:t>syste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19211400">
                <a:off x="449640" y="282600"/>
                <a:ext cx="59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5050"/>
                    </a:solidFill>
                    <a:latin typeface="HG丸ｺﾞｼｯｸM-PRO"/>
                    <a:ea typeface="HG丸ｺﾞｼｯｸM-PRO"/>
                  </a:rPr>
                  <a:t>hea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" name=""/>
          <p:cNvGrpSpPr/>
          <p:nvPr/>
        </p:nvGrpSpPr>
        <p:grpSpPr>
          <a:xfrm>
            <a:off x="6298560" y="6126120"/>
            <a:ext cx="2594160" cy="298440"/>
            <a:chOff x="6298560" y="6126120"/>
            <a:chExt cx="2594160" cy="298440"/>
          </a:xfrm>
        </p:grpSpPr>
        <p:grpSp>
          <p:nvGrpSpPr>
            <p:cNvPr id="53" name=""/>
            <p:cNvGrpSpPr/>
            <p:nvPr/>
          </p:nvGrpSpPr>
          <p:grpSpPr>
            <a:xfrm>
              <a:off x="6298560" y="6153840"/>
              <a:ext cx="537840" cy="203040"/>
              <a:chOff x="6298560" y="6153840"/>
              <a:chExt cx="537840" cy="203040"/>
            </a:xfrm>
          </p:grpSpPr>
          <p:sp>
            <p:nvSpPr>
              <p:cNvPr id="54" name=""/>
              <p:cNvSpPr/>
              <p:nvPr/>
            </p:nvSpPr>
            <p:spPr>
              <a:xfrm rot="344400">
                <a:off x="6305400" y="6185880"/>
                <a:ext cx="309240" cy="155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344400">
                <a:off x="6410160" y="6177960"/>
                <a:ext cx="307800" cy="1540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344400">
                <a:off x="6519600" y="6168600"/>
                <a:ext cx="309600" cy="155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6840360" y="6126120"/>
              <a:ext cx="2052360" cy="2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>
            <a:hlinkClick r:id="rId3"/>
          </p:cNvPr>
          <p:cNvSpPr/>
          <p:nvPr/>
        </p:nvSpPr>
        <p:spPr>
          <a:xfrm>
            <a:off x="6233760" y="650412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RL:http://www.tousenku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99ff33"/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4360" y="493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効率的なポスターの運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8720" y="649116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2200" y="765000"/>
            <a:ext cx="2703240" cy="1270080"/>
          </a:xfrm>
          <a:prstGeom prst="cloudCallout">
            <a:avLst>
              <a:gd name="adj1" fmla="val 70648"/>
              <a:gd name="adj2" fmla="val 5033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ポスターを人目につく場所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枚でも多く貼りたいけ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場所探しが大変だな・・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2808360" cy="183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914360" y="981000"/>
            <a:ext cx="2143080" cy="894960"/>
          </a:xfrm>
          <a:prstGeom prst="cloudCallout">
            <a:avLst>
              <a:gd name="adj1" fmla="val -74231"/>
              <a:gd name="adj2" fmla="val 72194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ポスター運用が効率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ができればなぁ・・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84880" y="3859200"/>
            <a:ext cx="2497320" cy="10674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ポスターを貼る場所を確保するのは手間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時間がかかる作業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所有者の合意をもらいながら進めなくて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なりません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0160" y="3500280"/>
            <a:ext cx="1034280" cy="337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スペースの確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16560" y="3860640"/>
            <a:ext cx="581400" cy="106740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スペースが決まれば、迅速に貼って告示（公示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直前に一気に剥がします。告示（公示）後は選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ポスターに張替えなければなりません。迅速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効率的な運用が大切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24560" y="3500280"/>
            <a:ext cx="1155960" cy="337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作業効率のアッ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5084640"/>
            <a:ext cx="8497800" cy="1297080"/>
          </a:xfrm>
          <a:prstGeom prst="roundRect">
            <a:avLst>
              <a:gd name="adj" fmla="val 10773"/>
            </a:avLst>
          </a:prstGeom>
          <a:solidFill>
            <a:srgbClr val="eaeaea"/>
          </a:solidFill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データの管理がしっかりできていれば、慌てることはありません。後援者の状況を候補者自身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しっかり把握していれば「何をしなければいけないか」が見えてき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スタッフの方も、誰かに指示される前に何をすれば良いかが明確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ここではデータ管理が　いかに重要であるかご説明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59960" y="115920"/>
            <a:ext cx="1780920" cy="3070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しっかりしたデータ管理がカギ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99ff33"/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8720" y="649116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4360" y="493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効率的なポスターの運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59960" y="115920"/>
            <a:ext cx="1780920" cy="3070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しっかりしたデータ管理がカギ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1181160"/>
            <a:ext cx="2963880" cy="1819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06400" y="2070000"/>
            <a:ext cx="863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83880" y="1855800"/>
            <a:ext cx="720360" cy="276480"/>
          </a:xfrm>
          <a:prstGeom prst="wedgeRectCallout">
            <a:avLst>
              <a:gd name="adj1" fmla="val -83166"/>
              <a:gd name="adj2" fmla="val 836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88000" y="1108080"/>
            <a:ext cx="2808360" cy="2104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282360" y="1612800"/>
            <a:ext cx="1484280" cy="413640"/>
          </a:xfrm>
          <a:prstGeom prst="wedgeRectCallout">
            <a:avLst>
              <a:gd name="adj1" fmla="val -81328"/>
              <a:gd name="adj2" fmla="val 81736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①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ポスターを選択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（前回の選挙時にポスターを貼った場所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35280" y="2044800"/>
            <a:ext cx="81432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57320" y="892080"/>
            <a:ext cx="720360" cy="276480"/>
          </a:xfrm>
          <a:prstGeom prst="wedgeRectCallout">
            <a:avLst>
              <a:gd name="adj1" fmla="val -98449"/>
              <a:gd name="adj2" fmla="val 6950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003280" y="3284640"/>
            <a:ext cx="1008360" cy="93636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4105440" cy="303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873400" y="4292640"/>
            <a:ext cx="2375280" cy="1523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簡単に宛名ラベルとリストが同時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できあがります。（ラベルは印刷不要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このリストを基に前回、ポスター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貼らせてくれた後援者に電話や訪問等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アプローチ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5240" y="581040"/>
            <a:ext cx="225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前回の選挙時のデータを活用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99ff33"/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51640" y="893880"/>
            <a:ext cx="30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区分に”○年ポスター“というキーワードを登録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268280"/>
            <a:ext cx="486000" cy="503280"/>
          </a:xfrm>
          <a:prstGeom prst="downArrow">
            <a:avLst>
              <a:gd name="adj1" fmla="val 49676"/>
              <a:gd name="adj2" fmla="val 58767"/>
            </a:avLst>
          </a:prstGeom>
          <a:solidFill>
            <a:srgbClr val="bbe0e3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85680" y="1857240"/>
            <a:ext cx="363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ラベル印刷の要領で“△年ポスター”のリストを出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（前回の選挙でポスターを貼らせてくれた人のリス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7640" y="2462040"/>
            <a:ext cx="485640" cy="503280"/>
          </a:xfrm>
          <a:prstGeom prst="downArrow">
            <a:avLst>
              <a:gd name="adj1" fmla="val 49676"/>
              <a:gd name="adj2" fmla="val 58811"/>
            </a:avLst>
          </a:prstGeom>
          <a:solidFill>
            <a:srgbClr val="bbe0e3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440" y="302580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電話をかけて依頼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11560" y="2575080"/>
            <a:ext cx="450360" cy="3373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30280" y="3398760"/>
            <a:ext cx="541800" cy="3373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1" idx="3"/>
            <a:endCxn id="92" idx="1"/>
          </p:cNvCxnSpPr>
          <p:nvPr/>
        </p:nvCxnSpPr>
        <p:spPr>
          <a:xfrm flipV="1">
            <a:off x="2708280" y="2749320"/>
            <a:ext cx="496080" cy="44496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3" idx="1"/>
            <a:endCxn id="91" idx="3"/>
          </p:cNvCxnSpPr>
          <p:nvPr/>
        </p:nvCxnSpPr>
        <p:spPr>
          <a:xfrm flipH="1" flipV="1">
            <a:off x="2707560" y="3193560"/>
            <a:ext cx="515160" cy="380160"/>
          </a:xfrm>
          <a:prstGeom prst="straightConnector1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4361760" y="3413160"/>
            <a:ext cx="27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ポスター”のデータをメンテナンス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9080" y="2565360"/>
            <a:ext cx="29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次回の選挙を考慮してデータはそのままにしてお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50760" y="3444840"/>
            <a:ext cx="486000" cy="503280"/>
          </a:xfrm>
          <a:prstGeom prst="downArrow">
            <a:avLst>
              <a:gd name="adj1" fmla="val 49676"/>
              <a:gd name="adj2" fmla="val 58767"/>
            </a:avLst>
          </a:prstGeom>
          <a:solidFill>
            <a:srgbClr val="bbe0e3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3520" y="389736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ポスターを貼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52560" y="4295880"/>
            <a:ext cx="485640" cy="503280"/>
          </a:xfrm>
          <a:prstGeom prst="downArrow">
            <a:avLst>
              <a:gd name="adj1" fmla="val 49676"/>
              <a:gd name="adj2" fmla="val 58811"/>
            </a:avLst>
          </a:prstGeom>
          <a:solidFill>
            <a:srgbClr val="bbe0e3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56120" y="482112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告示前に一気に剥が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00600" y="483876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後日、ポスターを貼らせてくれた方へのお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6" idx="2"/>
            <a:endCxn id="101" idx="0"/>
          </p:cNvCxnSpPr>
          <p:nvPr/>
        </p:nvCxnSpPr>
        <p:spPr>
          <a:xfrm rot="5400000">
            <a:off x="3159000" y="2253600"/>
            <a:ext cx="1072080" cy="4064400"/>
          </a:xfrm>
          <a:prstGeom prst="bentConnector3">
            <a:avLst>
              <a:gd name="adj1" fmla="val 49916"/>
            </a:avLst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6" idx="2"/>
            <a:endCxn id="102" idx="0"/>
          </p:cNvCxnSpPr>
          <p:nvPr/>
        </p:nvCxnSpPr>
        <p:spPr>
          <a:xfrm flipH="1" rot="16200000">
            <a:off x="5686920" y="3789000"/>
            <a:ext cx="1089720" cy="1010520"/>
          </a:xfrm>
          <a:prstGeom prst="bentConnector3">
            <a:avLst>
              <a:gd name="adj1" fmla="val 50000"/>
            </a:avLst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132000" y="4221000"/>
            <a:ext cx="100836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ポス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リス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34040" y="4178160"/>
            <a:ext cx="10796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ポス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ラベ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56360" y="2968560"/>
            <a:ext cx="100800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ポス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リス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0280" y="2062080"/>
            <a:ext cx="1008000" cy="432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ポス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リス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1" idx="2"/>
            <a:endCxn id="89" idx="0"/>
          </p:cNvCxnSpPr>
          <p:nvPr/>
        </p:nvCxnSpPr>
        <p:spPr>
          <a:xfrm flipH="1" flipV="1" rot="5400000">
            <a:off x="582120" y="2936880"/>
            <a:ext cx="3301200" cy="1140840"/>
          </a:xfrm>
          <a:prstGeom prst="bentConnector5">
            <a:avLst>
              <a:gd name="adj1" fmla="val -25008"/>
              <a:gd name="adj2" fmla="val 615719"/>
              <a:gd name="adj3" fmla="val 106925"/>
            </a:avLst>
          </a:prstGeom>
          <a:ln w="572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2050920" y="5587920"/>
            <a:ext cx="6337440" cy="93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次回の選挙の際には“△年ポスターリスト”と“○年ポスターリスト”を基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電話でポスター依頼後、新たなリストを作成します。（次回の選挙の際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電話や訪問対象のリストになります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510760" y="2841120"/>
            <a:ext cx="423720" cy="1197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ff"/>
                </a:solidFill>
                <a:latin typeface="Arial"/>
              </a:rPr>
              <a:t>次回選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21440" y="865080"/>
            <a:ext cx="3671640" cy="3373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ここまでの作業が『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SK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』だけできます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16280" y="8885160"/>
            <a:ext cx="34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98720" y="649116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4360" y="493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効率的なポスターの運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59960" y="115920"/>
            <a:ext cx="1780920" cy="3070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しっかりしたデータ管理がカギ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15760" y="1135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（※○年ポスターは今回、△年ポスターは前回とします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501336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1400" y="581040"/>
            <a:ext cx="24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前回の選挙時のデータを活用する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1280" y="1012680"/>
            <a:ext cx="7993080" cy="5224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324320" y="692280"/>
            <a:ext cx="636480" cy="824040"/>
          </a:xfrm>
          <a:prstGeom prst="rect">
            <a:avLst/>
          </a:prstGeom>
          <a:solidFill>
            <a:srgbClr val="99ff3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ラベル印刷のボタンをクリックすると左右両方のデータができあが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左側は「お礼」際のラベルとして、右側はポスターを貼る際、剥がす際のデータとして利用でき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各地区毎に担当者がリストを持って回れば効率があがります。また、どちらかのみの印刷も可能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99ff33"/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00280" y="8669160"/>
            <a:ext cx="34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8885160"/>
            <a:ext cx="34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31920" y="1119996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1920" y="910116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7920" y="931716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63920" y="9532800"/>
            <a:ext cx="34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8720" y="649116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360" y="493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効率的なポスターの運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960" y="115920"/>
            <a:ext cx="1780920" cy="3070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しっかりしたデータ管理がカギ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203720" y="2205000"/>
            <a:ext cx="2557440" cy="3600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600080" y="1949400"/>
            <a:ext cx="1765800" cy="33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ラベル印刷リストのイメ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598760" y="2212920"/>
            <a:ext cx="2469960" cy="3457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11440" y="1949400"/>
            <a:ext cx="1887480" cy="33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ラベル印刷用データのイメ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5148360"/>
            <a:ext cx="8785440" cy="59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※</a:t>
            </a: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上記データはダミー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データベースに入っている住所等は全て表示、印刷されます。また、住所はまとまってリスト化されるので、担当地区毎に担当者がリストを持ってまわれます。複数人で一気に作業ができ、効率化が可能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6:25:42Z</dcterms:created>
  <dc:creator>yamauchi</dc:creator>
  <dc:description/>
  <dc:language>en-US</dc:language>
  <cp:lastModifiedBy>try</cp:lastModifiedBy>
  <dcterms:modified xsi:type="dcterms:W3CDTF">2011-05-17T09:32:04Z</dcterms:modified>
  <cp:revision>16</cp:revision>
  <dc:subject/>
  <dc:title>スライド 1</dc:title>
</cp:coreProperties>
</file>